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ADEA-86BC-4616-8C43-BC904C59F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E248-232A-4A80-938E-EB4AF74A9BF7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CAC5-7C21-424D-9624-EADFD1880B2D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0B59-B053-43EA-A106-48CC177790FB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FE8E-C489-4426-AD4D-912E07ADE379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F006-F5E3-4E3B-966B-0EE5E6A1D3B1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331B-86B0-43F4-BBF8-8E9071EB4EF5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26ED-ECDF-4CAD-8D49-FCC0049094A1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332-59B9-4C2A-AD96-4930BD54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B10-1291-481E-A102-B376EBD8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B4BDF-B422-4B0C-A2BE-F828EA37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26B85-9B52-47B4-A69A-1ED2FC36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2F9E3-6B6E-46E0-9B65-29FE0B8A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F9BCE-1604-4F86-9C8E-58124A69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3B169-BCC5-488F-82F8-384D185E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28D91-426F-4725-98E7-4CDF38A3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DD392-F4DC-4A63-B110-2EAC88D0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68F40-0FA0-4078-9AB4-F054B23B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A5184-4F8B-4771-A1B2-1154EEF1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9F8D9-8F62-416C-8E76-C6D5A568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205-6BA1-4C7B-A7E7-ACD7238F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8F709-8BAE-41C6-9336-BD709E68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840FA-489E-4590-86BF-C8B9F308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ABFDB-2C32-4E7B-BC25-CE261AF8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C6808-57A5-470D-B3D3-C98602E0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2580C-B6EC-495B-A60E-9B16E126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BA257-31E5-4F19-93BA-7194A5F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755B4-D3B9-4E03-AFB8-D3C4DC4C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8ED2C-8E63-4F27-91A9-073768C9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6D96F-0E1C-46D0-8585-9527629F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A4185-C215-4A95-B462-37D79BF1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04C-C7EC-4E80-AE51-85974A2D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45A2A-F490-469C-B96F-DE8B2B27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6D3C7-A7DF-46E8-AAFE-7B70E329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D4B62-B8F6-4B71-B255-69363677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824D7-98D7-43BC-9B2F-13D23B21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20CD5-0774-4619-B6F8-FE678202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DDB4B-24EB-4CDF-8CDE-8A0FC96B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AE54C-382D-47FF-AE64-7E9C4A03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5A635-DCD4-4474-9870-3DB41939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8BC3E-7519-4F4B-B473-A70373B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7B9B4-48CC-48C9-B1C2-3BA07B79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F344-0B40-45A3-A79C-1CB83A29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BCEF3-69BD-40D8-8C9F-EF790DE6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5473D-B041-459B-AC52-1AC3C5F2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D110C-0D27-4A47-A94E-85485B6B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AAB6-61BE-4989-921F-7E059260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2AE6-0D19-4936-81A0-12E7D9D6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2F5A-054D-4B66-963F-78E70921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9621-B5AE-43A4-A5E2-F862CAA1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4953-9C24-44C4-B8AA-351742FA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AC15-7906-450A-BF54-55052C5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24B-73C6-4FBE-AACA-24A8657A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375D-E672-4534-A3E8-48E6C25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32D7-9EE1-455C-9B63-207FA448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3C8-2763-458E-B3D7-0BF73468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09DF-C589-42FF-8AEB-8BE3385D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4FA0-32D1-4D04-9404-BB9D7BE8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B589-6A7C-45C8-BAED-878FB386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29E2-E212-4E6A-A9B7-8382C8CC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FBFD-6325-41D5-8A1B-FF390978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40B2-8505-4CA9-A60E-5B66AB06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C2DA-284F-4CC5-859A-4F8965FD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D15-BD59-4059-9C41-8BD30484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8FA1-A464-455D-A842-4ACCF154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9F078-C067-42A3-8851-732347A0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5C49-731C-4F84-98FF-AE2BFB26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4EF1-6DB4-43B6-B367-6F284C2F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CAB2-E277-47CC-B66E-144280E7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9558-7A91-4AE9-9396-73A20073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12D9-CB70-4125-BA2F-BF70491F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7320-EB91-488F-A8DD-ACB70F5D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E28B-EE0C-4C22-BDDE-E0CF315E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385AF-DE62-4C76-AC12-CED5544E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7DE-6E30-4188-BE6B-9AC8532F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29A1-33DB-4B52-9B7A-F0658F24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1A1FC-A107-4059-A362-125BED93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11E6-6F2B-4E14-9B20-42EC5F13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FC6E-9168-416C-B28F-2FD405A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9A66-13EF-49C3-BA99-A88CDDD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BD1D-9DB9-4B9B-BCF8-8F1EE6CF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F8E5-B576-41F7-B207-26D7154E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CC3F1-2471-4BB8-AEDC-A4EE1E8F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74FF-96FA-4A29-B51D-88E59182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C2DA-91E0-4512-9D59-896F1E61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3A3-2595-4525-8431-A94785E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E0B27-0D3C-4D72-BA91-30D184D2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89E4-DA62-4C5B-93B0-46649B66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F7B6-9DED-4E10-994D-BF94934A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F1439-7E93-4308-84F5-A01E2784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829C2-8AE0-4268-BFC6-1804C1E7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0CE4E-CC9D-47E0-B189-B1F08514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216E-BAEA-4C4F-BCFE-CB337C0C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B67B6-4EAE-4BEA-8E33-A0D31070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48897-B984-46A4-88E9-0145B561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E995-335B-4918-8225-02C1806D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A1A-6BF8-46B0-A2A9-5367446B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7688-5192-4775-B50D-74EB73C6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59FC-A20E-424D-A551-1F3E45D3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C76DB-17F8-4D3B-AF14-E7586BB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7936B-1247-4027-82A7-BF64D3C3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9AAF5-4D03-4069-884F-666322AB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7DD59-6357-4D9F-B216-33DB161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9C65F-4434-4E66-8C58-2AF18E37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2B1D-58DB-42D0-B901-81A02F8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19D0-5D31-4270-AE48-96ADB58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ADE58-91C6-4039-A9C2-EA2DC96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8A5-DFED-4CA9-9460-593D8F6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9CA3D-B5E1-4EC7-8FE9-E8CD1F0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1381C-4681-42F9-B57F-0CF0745D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0996B-DC45-44DA-819C-E1353185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CA031-845E-434C-B618-C7EDE2FC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3002-1E10-4436-972F-C574121A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ECE7-916C-4B4E-931D-963401ED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8BB91-14C3-4A2D-9B35-EA4DDB5F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425EF-998E-42A7-BC4A-CB403396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4566B-ABF6-4F3E-AB59-C7BEDE9C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7DD56-851B-4588-963E-6B11195B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3C1-1A09-464A-B59B-8B62BD31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A1C9F-9A33-4B03-8633-4F1AFF5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D2178-3E6F-48AE-B978-D1A2FE45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B4427-B672-4F05-A8E9-1CBCAD28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1747-1521-4716-ACAD-F7947FC8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85814-6CEC-4E23-AA08-7F3D74AE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928DE-EBE7-42D8-908D-51AB466E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097DA-9307-4924-BECD-D1C9B3B0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87736-60D6-4A4D-95DF-70479B9A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EE746-758E-48F6-819F-4FC28D0D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F6A9A-94C8-4BFE-8782-BF10B15C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3DE-5CF8-46F4-9A83-48DDB15B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2406-31AD-413A-BAE7-EFB39D9A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DF4CD-C0F4-42BD-B96A-7C233BA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FC680-AE57-463C-96ED-1740D869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A045D-68DC-451E-AF6C-18F40F9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E8CC8-43EA-4DD9-B14B-D8CF9A6A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08148-3A38-4804-8DD8-00D53A45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3C409-175F-4D43-8B45-BF2AE874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E37D8-353B-40BB-8D83-1B8F2461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0A833-A058-4867-A9C9-2F41155B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A5BAC-4C54-4DD4-9F6C-17A71306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D991-16D9-4A94-A794-B2F0D7D09D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730D-B092-46F5-AE6E-7BD60644F1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D212-F92E-4EF2-9DD8-22C54D7187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75E6-96E2-4C7D-A3E7-2394D56510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4A77-C81C-4EEE-B0DA-A1C653313B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1F74-ED5E-4033-A89C-D4E6323EB9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E1E0-959B-4595-90ED-3F038F973C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99B7-A986-4E84-8EF9-21E7B3A293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FB44-21A1-4A97-9CDB-C0ABDD89C7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05C2-4E02-4192-A337-2E93F4BB4E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FDE9-FD10-4990-AF39-C7890909C2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ip.org/history/electron/jjappara.htm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CHAPTER 4/25 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Atomic Structu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Nuclear Chemist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utherford’s Conclus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514" name="Picture 8" descr="scattering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Rutherford's Nuclear Model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07720" y="8380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1. The atom contains a tiny dense center called the nucleu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volume is about 1/10 trillionth the volume of the atom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2. The nucleus is essentially the entire mass of the ato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3. The nucleus is positively charg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amount of positive charge of the nucleus balances the negative charge of the electro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4. The electrons move around in the empty space of th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tom surrounding the nucle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Coworker James Chadwick later adds neutr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roperties of Subatomic Partic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28600" y="1828800"/>
          <a:ext cx="8534520" cy="341316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  <a:gridCol w="2133720"/>
                <a:gridCol w="1322280"/>
                <a:gridCol w="1430280"/>
                <a:gridCol w="159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Particl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Relativ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Electrical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Relative Mas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Mass (g)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Electron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Space surrounding the nucleu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-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 u="sng">
                          <a:solidFill>
                            <a:srgbClr val="292934"/>
                          </a:solidFill>
                          <a:uFillTx/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 u="sng">
                          <a:solidFill>
                            <a:srgbClr val="292934"/>
                          </a:solidFill>
                          <a:uFillTx/>
                          <a:latin typeface="Times New Roman"/>
                          <a:ea typeface="Times New Roman"/>
                        </a:rPr>
                        <a:t>1_</a:t>
                      </a: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 u="sng">
                          <a:solidFill>
                            <a:srgbClr val="292934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840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9.11 x 10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-28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Proton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.637 x 10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-24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Neutron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.675 x 10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-24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Understanding Periodic Block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520" name="Rectangle 5" descr=""/>
          <p:cNvPicPr/>
          <p:nvPr/>
        </p:nvPicPr>
        <p:blipFill>
          <a:blip r:embed="rId1"/>
          <a:stretch/>
        </p:blipFill>
        <p:spPr>
          <a:xfrm>
            <a:off x="407880" y="1603440"/>
            <a:ext cx="8278920" cy="48765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357800" y="1600200"/>
            <a:ext cx="3695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# of prot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# of electr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lement Symbol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tomic Mas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weighted average   atomic mass of isotopes of an atom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2" name="Line 8"/>
          <p:cNvSpPr/>
          <p:nvPr/>
        </p:nvSpPr>
        <p:spPr>
          <a:xfrm flipH="1" flipV="1">
            <a:off x="1752480" y="2857320"/>
            <a:ext cx="2438640" cy="1904760"/>
          </a:xfrm>
          <a:prstGeom prst="line">
            <a:avLst/>
          </a:prstGeom>
          <a:ln w="93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23" name="Line 9"/>
          <p:cNvSpPr/>
          <p:nvPr/>
        </p:nvSpPr>
        <p:spPr>
          <a:xfrm flipH="1" flipV="1">
            <a:off x="1600200" y="2215800"/>
            <a:ext cx="2743200" cy="1066680"/>
          </a:xfrm>
          <a:prstGeom prst="line">
            <a:avLst/>
          </a:prstGeom>
          <a:ln w="93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24" name="Line 10"/>
          <p:cNvSpPr/>
          <p:nvPr/>
        </p:nvSpPr>
        <p:spPr>
          <a:xfrm flipH="1">
            <a:off x="1447920" y="1828800"/>
            <a:ext cx="2743200" cy="0"/>
          </a:xfrm>
          <a:prstGeom prst="line">
            <a:avLst/>
          </a:prstGeom>
          <a:ln w="93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25" name="TextBox 1"/>
          <p:cNvSpPr/>
          <p:nvPr/>
        </p:nvSpPr>
        <p:spPr>
          <a:xfrm>
            <a:off x="412920" y="4782960"/>
            <a:ext cx="3396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ass Number      </a:t>
            </a:r>
            <a:r>
              <a:rPr b="0" lang="en-US" sz="2400" spc="-1" strike="noStrike">
                <a:solidFill>
                  <a:srgbClr val="292934"/>
                </a:solidFill>
                <a:latin typeface="Tahoma"/>
              </a:rPr>
              <a:t>#protons + # neutrons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526" name="TextBox 2" descr=""/>
          <p:cNvPicPr/>
          <p:nvPr/>
        </p:nvPicPr>
        <p:blipFill>
          <a:blip r:embed="rId2"/>
          <a:stretch/>
        </p:blipFill>
        <p:spPr>
          <a:xfrm>
            <a:off x="3505320" y="4705200"/>
            <a:ext cx="9144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an 20.0983 Neutrons Exist??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No, 39.0983 is an average mass of all natural K ato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ll K atoms MUST have 19 prot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ome have 20 neutrons, some 19, some 21…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verage is 20.0983 neutr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ndividual isotopes are identified by the number of </a:t>
            </a:r>
            <a:r>
              <a:rPr b="0" lang="en-US" sz="2800" spc="-1" strike="noStrike" u="sng">
                <a:solidFill>
                  <a:srgbClr val="292934"/>
                </a:solidFill>
                <a:uFillTx/>
                <a:latin typeface="Arial"/>
              </a:rPr>
              <a:t>neutr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Identifying Protons, Neutrons, and Electron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hlorine-35 (element-mass number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# of protons = 17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# electrons = # prot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# neutrons = mass number – prot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5-17 = 18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Why no electrons in atomic mass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lectron has mass 1/1837 of Proton and Neutr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57200" y="533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sotopes</a:t>
            </a:r>
            <a:endParaRPr b="0" lang="en-US" sz="40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32" name="TextBox 3"/>
          <p:cNvSpPr/>
          <p:nvPr/>
        </p:nvSpPr>
        <p:spPr>
          <a:xfrm>
            <a:off x="460440" y="1366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Nuclear Notation     or         Isotope Notation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533" name="TextBox 7" descr=""/>
          <p:cNvPicPr/>
          <p:nvPr/>
        </p:nvPicPr>
        <p:blipFill>
          <a:blip r:embed="rId1"/>
          <a:stretch/>
        </p:blipFill>
        <p:spPr>
          <a:xfrm>
            <a:off x="487440" y="2004840"/>
            <a:ext cx="6492960" cy="878040"/>
          </a:xfrm>
          <a:prstGeom prst="rect">
            <a:avLst/>
          </a:prstGeom>
          <a:ln w="0">
            <a:noFill/>
          </a:ln>
        </p:spPr>
      </p:pic>
      <p:sp>
        <p:nvSpPr>
          <p:cNvPr id="534" name="TextBox 8"/>
          <p:cNvSpPr/>
          <p:nvPr/>
        </p:nvSpPr>
        <p:spPr>
          <a:xfrm>
            <a:off x="1787400" y="2873520"/>
            <a:ext cx="4572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# protons   = ______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# neutrons = ______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# electrons = ______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35" name="TextBox 9"/>
          <p:cNvSpPr/>
          <p:nvPr/>
        </p:nvSpPr>
        <p:spPr>
          <a:xfrm>
            <a:off x="685800" y="4826160"/>
            <a:ext cx="746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Problems that  can arise..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92934"/>
                </a:solidFill>
                <a:uFillTx/>
                <a:latin typeface="Tahoma"/>
              </a:rPr>
              <a:t>Charges and Ions 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– Only changes the number of electrons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92934"/>
                </a:solidFill>
                <a:uFillTx/>
                <a:latin typeface="Tahoma"/>
              </a:rPr>
              <a:t>Finding the mass number 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– use symbol, p</a:t>
            </a:r>
            <a:r>
              <a:rPr b="0" lang="en-US" sz="1800" spc="-1" strike="noStrike" baseline="30000">
                <a:solidFill>
                  <a:srgbClr val="292934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and n</a:t>
            </a:r>
            <a:r>
              <a:rPr b="0" lang="en-US" sz="1800" spc="-1" strike="noStrike" baseline="30000">
                <a:solidFill>
                  <a:srgbClr val="292934"/>
                </a:solidFill>
                <a:latin typeface="Tahoma"/>
              </a:rPr>
              <a:t>o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or periodic table in that order!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tomic Mass Uni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rbon-1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 prot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 neutr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tomic mass unit is equal to one-twelfth of the mass of the nucleus of a carbon-12 ato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tomic Mass Problem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555480" y="1744560"/>
            <a:ext cx="8131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oron has two naturally occurring isotopes: boron-10 (19.8%, 10.013 amu) and boron 11 (80.2%, 11.009 amu).  What is the atomic mass of boron?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Find the Abundance x Mass for each isotope and then add products together.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0.198 x 10.013 = 1.98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92934"/>
                </a:solidFill>
                <a:uFillTx/>
                <a:latin typeface="Arial"/>
              </a:rPr>
              <a:t>0.802 x 11.009 = 8.83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1.000                 10.81 amu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6"/>
          <p:cNvGrpSpPr/>
          <p:nvPr/>
        </p:nvGrpSpPr>
        <p:grpSpPr>
          <a:xfrm>
            <a:off x="660240" y="907920"/>
            <a:ext cx="7372440" cy="4289400"/>
            <a:chOff x="660240" y="907920"/>
            <a:chExt cx="7372440" cy="4289400"/>
          </a:xfrm>
        </p:grpSpPr>
        <p:pic>
          <p:nvPicPr>
            <p:cNvPr id="541" name="Picture 10" descr="http://www.green-planet-solar-energy.com/images/PT-blank-1.gif"/>
            <p:cNvPicPr/>
            <p:nvPr/>
          </p:nvPicPr>
          <p:blipFill>
            <a:blip r:embed="rId1"/>
            <a:stretch/>
          </p:blipFill>
          <p:spPr>
            <a:xfrm>
              <a:off x="660240" y="907920"/>
              <a:ext cx="7372440" cy="42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Rectangle 8"/>
            <p:cNvSpPr/>
            <p:nvPr/>
          </p:nvSpPr>
          <p:spPr>
            <a:xfrm>
              <a:off x="660240" y="2355480"/>
              <a:ext cx="7240680" cy="530640"/>
            </a:xfrm>
            <a:prstGeom prst="rect">
              <a:avLst/>
            </a:prstGeom>
            <a:solidFill>
              <a:srgbClr val="bd867c">
                <a:alpha val="52000"/>
              </a:srgbClr>
            </a:solidFill>
            <a:ln w="82440">
              <a:solidFill>
                <a:srgbClr val="a539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9463d"/>
                  </a:solidFill>
                  <a:latin typeface="Arial"/>
                </a:rPr>
                <a:t>                                                          </a:t>
              </a: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Period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43" name="Rectangle 4"/>
            <p:cNvSpPr/>
            <p:nvPr/>
          </p:nvSpPr>
          <p:spPr>
            <a:xfrm>
              <a:off x="660240" y="1212480"/>
              <a:ext cx="547200" cy="2813760"/>
            </a:xfrm>
            <a:prstGeom prst="rect">
              <a:avLst/>
            </a:prstGeom>
            <a:solidFill>
              <a:srgbClr val="bd867c">
                <a:alpha val="46000"/>
              </a:srgbClr>
            </a:solidFill>
            <a:ln w="82440">
              <a:solidFill>
                <a:srgbClr val="a539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</p:txBody>
        </p:sp>
      </p:grpSp>
      <p:sp>
        <p:nvSpPr>
          <p:cNvPr id="544" name="TextBox 5"/>
          <p:cNvSpPr/>
          <p:nvPr/>
        </p:nvSpPr>
        <p:spPr>
          <a:xfrm>
            <a:off x="706320" y="4525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ahoma"/>
              </a:rPr>
              <a:t>Organization of the Periodic Table</a:t>
            </a:r>
            <a:endParaRPr b="0" lang="en-US" sz="36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-44280" y="5791320"/>
            <a:ext cx="93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There are 18 groups and 7 periods in the periodic table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 Long, Long Time Ago…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Greek Philosopher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4 elements are Earth, Water, Fire, and Ai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Aristotl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- first recorded atomic though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tter is continuous (no atoms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critus (400 B.C.)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- first recorded atomic theo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toms are smallest part of matter, each type of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tter has different ato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739800" cy="895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"/>
          <p:cNvPicPr/>
          <p:nvPr/>
        </p:nvPicPr>
        <p:blipFill>
          <a:blip r:embed="rId2"/>
          <a:stretch/>
        </p:blipFill>
        <p:spPr>
          <a:xfrm>
            <a:off x="546120" y="4533840"/>
            <a:ext cx="8445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hemical vs. Nuclear Chang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92934"/>
                </a:solidFill>
                <a:uFillTx/>
                <a:latin typeface="Arial"/>
              </a:rPr>
              <a:t>Chemical Change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- produces new kinds of matter with new properti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volves breaking and forming BOND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ccomplished by rearrangement of ELECTR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92934"/>
                </a:solidFill>
                <a:uFillTx/>
                <a:latin typeface="Arial"/>
              </a:rPr>
              <a:t>Nuclear Change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- produces a new nucleus that contains less energ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volves emission or capture of nuclear partic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ccomplished by changing PROTONS and NEUTRONS in nucle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6"/>
          <p:cNvSpPr/>
          <p:nvPr/>
        </p:nvSpPr>
        <p:spPr>
          <a:xfrm>
            <a:off x="668664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49" name="Rectangle 44"/>
          <p:cNvSpPr/>
          <p:nvPr/>
        </p:nvSpPr>
        <p:spPr>
          <a:xfrm>
            <a:off x="445788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0" name="Rectangle 42"/>
          <p:cNvSpPr/>
          <p:nvPr/>
        </p:nvSpPr>
        <p:spPr>
          <a:xfrm>
            <a:off x="1905120" y="505296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1" name="Rectangle 40"/>
          <p:cNvSpPr/>
          <p:nvPr/>
        </p:nvSpPr>
        <p:spPr>
          <a:xfrm>
            <a:off x="0" y="505296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Actual Hazar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2" name="Rectangle 24"/>
          <p:cNvSpPr/>
          <p:nvPr/>
        </p:nvSpPr>
        <p:spPr>
          <a:xfrm>
            <a:off x="668664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Low-Me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3" name="Rectangle 23"/>
          <p:cNvSpPr/>
          <p:nvPr/>
        </p:nvSpPr>
        <p:spPr>
          <a:xfrm>
            <a:off x="445788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4" name="Rectangle 22"/>
          <p:cNvSpPr/>
          <p:nvPr/>
        </p:nvSpPr>
        <p:spPr>
          <a:xfrm>
            <a:off x="1905120" y="410832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5" name="Rectangle 21"/>
          <p:cNvSpPr/>
          <p:nvPr/>
        </p:nvSpPr>
        <p:spPr>
          <a:xfrm>
            <a:off x="0" y="410832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Biological Hazar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668664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7" name="Rectangle 19"/>
          <p:cNvSpPr/>
          <p:nvPr/>
        </p:nvSpPr>
        <p:spPr>
          <a:xfrm>
            <a:off x="445788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8" name="Rectangle 18"/>
          <p:cNvSpPr/>
          <p:nvPr/>
        </p:nvSpPr>
        <p:spPr>
          <a:xfrm>
            <a:off x="1905120" y="329724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0" y="329724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0" name="Rectangle 16"/>
          <p:cNvSpPr/>
          <p:nvPr/>
        </p:nvSpPr>
        <p:spPr>
          <a:xfrm>
            <a:off x="668664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Hard (2 cm lead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445788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edium (aluminum foil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2" name="Rectangle 14"/>
          <p:cNvSpPr/>
          <p:nvPr/>
        </p:nvSpPr>
        <p:spPr>
          <a:xfrm>
            <a:off x="1905120" y="1925640"/>
            <a:ext cx="2552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Easy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(skin/clothes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3" name="Rectangle 13"/>
          <p:cNvSpPr/>
          <p:nvPr/>
        </p:nvSpPr>
        <p:spPr>
          <a:xfrm>
            <a:off x="0" y="192564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Shielding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668664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92934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292934"/>
                </a:solidFill>
                <a:latin typeface="Tahoma"/>
              </a:rPr>
              <a:t>0</a:t>
            </a:r>
            <a:r>
              <a:rPr b="0" lang="el-GR" sz="2800" spc="-1" strike="noStrike">
                <a:solidFill>
                  <a:srgbClr val="292934"/>
                </a:solidFill>
                <a:latin typeface="Tahoma"/>
              </a:rPr>
              <a:t>γ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445788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92934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292934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1905120" y="1116000"/>
            <a:ext cx="2552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92934"/>
                </a:solidFill>
                <a:latin typeface="Tahoma"/>
              </a:rPr>
              <a:t>4</a:t>
            </a:r>
            <a:r>
              <a:rPr b="0" lang="en-US" sz="2800" spc="-1" strike="noStrike" baseline="-25000">
                <a:solidFill>
                  <a:srgbClr val="292934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He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0" y="1116000"/>
            <a:ext cx="1905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Symbol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668664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GAMMA (</a:t>
            </a:r>
            <a:r>
              <a:rPr b="0" lang="el-GR" sz="2800" spc="-1" strike="noStrike">
                <a:solidFill>
                  <a:srgbClr val="292934"/>
                </a:solidFill>
                <a:latin typeface="Tahoma"/>
              </a:rPr>
              <a:t>γ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445788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BETA (</a:t>
            </a:r>
            <a:r>
              <a:rPr b="0" lang="el-GR" sz="2800" spc="-1" strike="noStrike">
                <a:solidFill>
                  <a:srgbClr val="292934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905120" y="30492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ALPHA (</a:t>
            </a:r>
            <a:r>
              <a:rPr b="0" lang="el-GR" sz="2800" spc="-1" strike="noStrike">
                <a:solidFill>
                  <a:srgbClr val="292934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0" y="30492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2" name="Line 25"/>
          <p:cNvSpPr/>
          <p:nvPr/>
        </p:nvSpPr>
        <p:spPr>
          <a:xfrm>
            <a:off x="0" y="304920"/>
            <a:ext cx="8915400" cy="0"/>
          </a:xfrm>
          <a:prstGeom prst="line">
            <a:avLst/>
          </a:prstGeom>
          <a:ln cap="sq" w="2844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3" name="Line 26"/>
          <p:cNvSpPr/>
          <p:nvPr/>
        </p:nvSpPr>
        <p:spPr>
          <a:xfrm>
            <a:off x="0" y="1116000"/>
            <a:ext cx="8915400" cy="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4" name="Line 27"/>
          <p:cNvSpPr/>
          <p:nvPr/>
        </p:nvSpPr>
        <p:spPr>
          <a:xfrm>
            <a:off x="0" y="1925640"/>
            <a:ext cx="8915400" cy="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5" name="Line 28"/>
          <p:cNvSpPr/>
          <p:nvPr/>
        </p:nvSpPr>
        <p:spPr>
          <a:xfrm>
            <a:off x="0" y="3297240"/>
            <a:ext cx="8915400" cy="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6" name="Line 29"/>
          <p:cNvSpPr/>
          <p:nvPr/>
        </p:nvSpPr>
        <p:spPr>
          <a:xfrm>
            <a:off x="0" y="4108320"/>
            <a:ext cx="8915400" cy="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7" name="Line 30"/>
          <p:cNvSpPr/>
          <p:nvPr/>
        </p:nvSpPr>
        <p:spPr>
          <a:xfrm>
            <a:off x="0" y="5997600"/>
            <a:ext cx="8915400" cy="0"/>
          </a:xfrm>
          <a:prstGeom prst="line">
            <a:avLst/>
          </a:prstGeom>
          <a:ln cap="sq" w="2844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8" name="Line 31"/>
          <p:cNvSpPr/>
          <p:nvPr/>
        </p:nvSpPr>
        <p:spPr>
          <a:xfrm>
            <a:off x="0" y="304920"/>
            <a:ext cx="0" cy="5692680"/>
          </a:xfrm>
          <a:prstGeom prst="line">
            <a:avLst/>
          </a:prstGeom>
          <a:ln cap="sq" w="2844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9" name="Line 32"/>
          <p:cNvSpPr/>
          <p:nvPr/>
        </p:nvSpPr>
        <p:spPr>
          <a:xfrm>
            <a:off x="1905120" y="304920"/>
            <a:ext cx="0" cy="569268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80" name="Line 33"/>
          <p:cNvSpPr/>
          <p:nvPr/>
        </p:nvSpPr>
        <p:spPr>
          <a:xfrm>
            <a:off x="4457880" y="304920"/>
            <a:ext cx="0" cy="569268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81" name="Line 34"/>
          <p:cNvSpPr/>
          <p:nvPr/>
        </p:nvSpPr>
        <p:spPr>
          <a:xfrm>
            <a:off x="6686640" y="304920"/>
            <a:ext cx="0" cy="569268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82" name="Line 35"/>
          <p:cNvSpPr/>
          <p:nvPr/>
        </p:nvSpPr>
        <p:spPr>
          <a:xfrm>
            <a:off x="8915400" y="304920"/>
            <a:ext cx="0" cy="5692680"/>
          </a:xfrm>
          <a:prstGeom prst="line">
            <a:avLst/>
          </a:prstGeom>
          <a:ln cap="sq" w="2844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83" name="Line 41"/>
          <p:cNvSpPr/>
          <p:nvPr/>
        </p:nvSpPr>
        <p:spPr>
          <a:xfrm>
            <a:off x="0" y="5052960"/>
            <a:ext cx="8915400" cy="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Other Radi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onizing Radiation- has significant energy to change atoms and molecules into 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ypes: alpha, beta, gamma, x-ray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Effects to living organisms: changes in, DNA (cell death/cancer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onionizing radiation- does not have significant energy to ionize atoms or molecules (types: microwaves, visible light, radiowaves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d2533c"/>
                </a:solidFill>
                <a:latin typeface="Arial"/>
              </a:rPr>
              <a:t>Nuclear Stability</a:t>
            </a:r>
            <a:br>
              <a:rPr sz="3100"/>
            </a:br>
            <a:r>
              <a:rPr b="0" lang="en-US" sz="2500" spc="-1" strike="noStrike">
                <a:solidFill>
                  <a:srgbClr val="d2533c"/>
                </a:solidFill>
                <a:latin typeface="Arial"/>
              </a:rPr>
              <a:t>(Electrostatic Force vs. Nuclear Force)</a:t>
            </a:r>
            <a:endParaRPr b="0" lang="en-US" sz="25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lectrostatic force arises from the interaction between two protons (repulsive forc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uclear force arises between protons and neutrons due to their close proximity to one anoth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8" name="Oval 5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f3f2dc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grpSp>
        <p:nvGrpSpPr>
          <p:cNvPr id="589" name="Group 19"/>
          <p:cNvGrpSpPr/>
          <p:nvPr/>
        </p:nvGrpSpPr>
        <p:grpSpPr>
          <a:xfrm>
            <a:off x="3848040" y="2413080"/>
            <a:ext cx="1143000" cy="990360"/>
            <a:chOff x="3848040" y="2413080"/>
            <a:chExt cx="1143000" cy="990360"/>
          </a:xfrm>
        </p:grpSpPr>
        <p:sp>
          <p:nvSpPr>
            <p:cNvPr id="590" name="Oval 18"/>
            <p:cNvSpPr/>
            <p:nvPr/>
          </p:nvSpPr>
          <p:spPr>
            <a:xfrm>
              <a:off x="4000320" y="24890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1" name="Oval 12"/>
            <p:cNvSpPr/>
            <p:nvPr/>
          </p:nvSpPr>
          <p:spPr>
            <a:xfrm>
              <a:off x="4457520" y="29462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2" name="Oval 4"/>
            <p:cNvSpPr/>
            <p:nvPr/>
          </p:nvSpPr>
          <p:spPr>
            <a:xfrm>
              <a:off x="4305240" y="3098880"/>
              <a:ext cx="30492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3" name="Oval 10"/>
            <p:cNvSpPr/>
            <p:nvPr/>
          </p:nvSpPr>
          <p:spPr>
            <a:xfrm>
              <a:off x="4686120" y="2717640"/>
              <a:ext cx="304920" cy="30492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4" name="Oval 11"/>
            <p:cNvSpPr/>
            <p:nvPr/>
          </p:nvSpPr>
          <p:spPr>
            <a:xfrm>
              <a:off x="4076640" y="302256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5" name="Oval 13"/>
            <p:cNvSpPr/>
            <p:nvPr/>
          </p:nvSpPr>
          <p:spPr>
            <a:xfrm>
              <a:off x="4533840" y="24890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6" name="Oval 15"/>
            <p:cNvSpPr/>
            <p:nvPr/>
          </p:nvSpPr>
          <p:spPr>
            <a:xfrm>
              <a:off x="4152960" y="241308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7" name="Oval 16"/>
            <p:cNvSpPr/>
            <p:nvPr/>
          </p:nvSpPr>
          <p:spPr>
            <a:xfrm>
              <a:off x="3848040" y="2793960"/>
              <a:ext cx="304920" cy="30492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8" name="Oval 6"/>
            <p:cNvSpPr/>
            <p:nvPr/>
          </p:nvSpPr>
          <p:spPr>
            <a:xfrm>
              <a:off x="4457520" y="27176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9" name="Oval 7"/>
            <p:cNvSpPr/>
            <p:nvPr/>
          </p:nvSpPr>
          <p:spPr>
            <a:xfrm>
              <a:off x="4000320" y="27176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600" name="Oval 8"/>
            <p:cNvSpPr/>
            <p:nvPr/>
          </p:nvSpPr>
          <p:spPr>
            <a:xfrm>
              <a:off x="4228920" y="29462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601" name="Oval 9"/>
            <p:cNvSpPr/>
            <p:nvPr/>
          </p:nvSpPr>
          <p:spPr>
            <a:xfrm>
              <a:off x="4228920" y="2717640"/>
              <a:ext cx="304920" cy="30492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d2533c"/>
                </a:solidFill>
                <a:latin typeface="Arial"/>
              </a:rPr>
              <a:t>Neutron to Proton Ration and the Band of Stability</a:t>
            </a:r>
            <a:endParaRPr b="0" lang="en-US" sz="31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5715000" y="3505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4952880" y="281952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s the atomic number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creases, more and more 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utrons are needed to 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reate a strong nuclear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ce to oppose and 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creasing electrostatic 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grpSp>
        <p:nvGrpSpPr>
          <p:cNvPr id="605" name="Group 16"/>
          <p:cNvGrpSpPr/>
          <p:nvPr/>
        </p:nvGrpSpPr>
        <p:grpSpPr>
          <a:xfrm>
            <a:off x="838080" y="1905120"/>
            <a:ext cx="4038840" cy="4647960"/>
            <a:chOff x="838080" y="1905120"/>
            <a:chExt cx="4038840" cy="4647960"/>
          </a:xfrm>
        </p:grpSpPr>
        <p:grpSp>
          <p:nvGrpSpPr>
            <p:cNvPr id="606" name="Group 14"/>
            <p:cNvGrpSpPr/>
            <p:nvPr/>
          </p:nvGrpSpPr>
          <p:grpSpPr>
            <a:xfrm>
              <a:off x="838080" y="1905120"/>
              <a:ext cx="4038840" cy="4647960"/>
              <a:chOff x="838080" y="1905120"/>
              <a:chExt cx="4038840" cy="4647960"/>
            </a:xfrm>
          </p:grpSpPr>
          <p:pic>
            <p:nvPicPr>
              <p:cNvPr id="607" name="Picture 5" descr="5cb2c6e6-0c3d-4a4a-919a-30f7c103c41d"/>
              <p:cNvPicPr/>
              <p:nvPr/>
            </p:nvPicPr>
            <p:blipFill>
              <a:blip r:embed="rId1"/>
              <a:stretch/>
            </p:blipFill>
            <p:spPr>
              <a:xfrm>
                <a:off x="838080" y="2362320"/>
                <a:ext cx="390384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Rectangle 7"/>
              <p:cNvSpPr/>
              <p:nvPr/>
            </p:nvSpPr>
            <p:spPr>
              <a:xfrm>
                <a:off x="3886200" y="335268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Tahoma"/>
                </a:endParaRPr>
              </a:p>
            </p:txBody>
          </p:sp>
          <p:sp>
            <p:nvSpPr>
              <p:cNvPr id="609" name="Rectangle 9"/>
              <p:cNvSpPr/>
              <p:nvPr/>
            </p:nvSpPr>
            <p:spPr>
              <a:xfrm>
                <a:off x="838080" y="2971800"/>
                <a:ext cx="1526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Tahoma"/>
                </a:endParaRPr>
              </a:p>
            </p:txBody>
          </p:sp>
          <p:sp>
            <p:nvSpPr>
              <p:cNvPr id="610" name="Text Box 10"/>
              <p:cNvSpPr/>
              <p:nvPr/>
            </p:nvSpPr>
            <p:spPr>
              <a:xfrm>
                <a:off x="4114800" y="25909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34"/>
                    </a:solidFill>
                    <a:latin typeface="Arial"/>
                  </a:rPr>
                  <a:t>1:1</a:t>
                </a:r>
                <a:endParaRPr b="0" lang="en-US" sz="1800" spc="-1" strike="noStrike">
                  <a:solidFill>
                    <a:srgbClr val="292934"/>
                  </a:solidFill>
                  <a:latin typeface="Tahoma"/>
                </a:endParaRPr>
              </a:p>
            </p:txBody>
          </p:sp>
          <p:sp>
            <p:nvSpPr>
              <p:cNvPr id="611" name="Line 11"/>
              <p:cNvSpPr/>
              <p:nvPr/>
            </p:nvSpPr>
            <p:spPr>
              <a:xfrm flipV="1">
                <a:off x="1295280" y="2286000"/>
                <a:ext cx="1981440" cy="35812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Tahoma"/>
                </a:endParaRPr>
              </a:p>
            </p:txBody>
          </p:sp>
          <p:sp>
            <p:nvSpPr>
              <p:cNvPr id="612" name="Text Box 12"/>
              <p:cNvSpPr/>
              <p:nvPr/>
            </p:nvSpPr>
            <p:spPr>
              <a:xfrm>
                <a:off x="2895480" y="19051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34"/>
                    </a:solidFill>
                    <a:latin typeface="Arial"/>
                  </a:rPr>
                  <a:t>1.5:1</a:t>
                </a:r>
                <a:endParaRPr b="0" lang="en-US" sz="1800" spc="-1" strike="noStrike">
                  <a:solidFill>
                    <a:srgbClr val="292934"/>
                  </a:solidFill>
                  <a:latin typeface="Tahoma"/>
                </a:endParaRPr>
              </a:p>
            </p:txBody>
          </p:sp>
        </p:grpSp>
        <p:sp>
          <p:nvSpPr>
            <p:cNvPr id="613" name="Rectangle 15"/>
            <p:cNvSpPr/>
            <p:nvPr/>
          </p:nvSpPr>
          <p:spPr>
            <a:xfrm>
              <a:off x="3200400" y="6095880"/>
              <a:ext cx="228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Nuclear Reac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15" name="Rectangle 3" descr=""/>
          <p:cNvPicPr/>
          <p:nvPr/>
        </p:nvPicPr>
        <p:blipFill>
          <a:blip r:embed="rId1"/>
          <a:stretch/>
        </p:blipFill>
        <p:spPr>
          <a:xfrm>
            <a:off x="407880" y="1603440"/>
            <a:ext cx="8278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Nuclear Deca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17" name="Rectangle 3" descr=""/>
          <p:cNvPicPr/>
          <p:nvPr/>
        </p:nvPicPr>
        <p:blipFill>
          <a:blip r:embed="rId1"/>
          <a:stretch/>
        </p:blipFill>
        <p:spPr>
          <a:xfrm>
            <a:off x="328680" y="1450800"/>
            <a:ext cx="828504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2533c"/>
                </a:solidFill>
                <a:latin typeface="Arial"/>
              </a:rPr>
              <a:t>Radioactive Decay </a:t>
            </a:r>
            <a:br>
              <a:rPr sz="4000"/>
            </a:br>
            <a:r>
              <a:rPr b="0" i="1" lang="en-US" sz="4000" spc="-1" strike="noStrike">
                <a:solidFill>
                  <a:srgbClr val="d2533c"/>
                </a:solidFill>
                <a:latin typeface="Arial"/>
              </a:rPr>
              <a:t>Half-lives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19" name="Picture 4" descr="ral4-1"/>
          <p:cNvPicPr/>
          <p:nvPr/>
        </p:nvPicPr>
        <p:blipFill>
          <a:blip r:embed="rId1"/>
          <a:stretch/>
        </p:blipFill>
        <p:spPr>
          <a:xfrm>
            <a:off x="3048120" y="3429000"/>
            <a:ext cx="3695760" cy="7714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676520" y="2111400"/>
            <a:ext cx="624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Half-life is the time taken for half of the atoms of a radio-active substance to decay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621" name="Rectangle 1" descr=""/>
          <p:cNvPicPr/>
          <p:nvPr/>
        </p:nvPicPr>
        <p:blipFill>
          <a:blip r:embed="rId2"/>
          <a:stretch/>
        </p:blipFill>
        <p:spPr>
          <a:xfrm>
            <a:off x="237960" y="5181480"/>
            <a:ext cx="4035600" cy="1103400"/>
          </a:xfrm>
          <a:prstGeom prst="rect">
            <a:avLst/>
          </a:prstGeom>
          <a:ln w="0">
            <a:noFill/>
          </a:ln>
        </p:spPr>
      </p:pic>
      <p:cxnSp>
        <p:nvCxnSpPr>
          <p:cNvPr id="622" name="Straight Arrow Connector 3"/>
          <p:cNvCxnSpPr/>
          <p:nvPr/>
        </p:nvCxnSpPr>
        <p:spPr>
          <a:xfrm flipH="1">
            <a:off x="4107960" y="5081400"/>
            <a:ext cx="153360" cy="19116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sp>
        <p:nvSpPr>
          <p:cNvPr id="623" name="TextBox 6"/>
          <p:cNvSpPr/>
          <p:nvPr/>
        </p:nvSpPr>
        <p:spPr>
          <a:xfrm>
            <a:off x="3276720" y="43974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Number of half-lives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TE/t</a:t>
            </a:r>
            <a:r>
              <a:rPr b="0" lang="en-US" sz="1800" spc="-1" strike="noStrike" baseline="30000">
                <a:solidFill>
                  <a:srgbClr val="292934"/>
                </a:solidFill>
                <a:latin typeface="Tahoma"/>
              </a:rPr>
              <a:t>1/2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5638680" y="4830840"/>
            <a:ext cx="3276720" cy="1739880"/>
          </a:xfrm>
          <a:prstGeom prst="rect">
            <a:avLst/>
          </a:prstGeom>
          <a:noFill/>
          <a:ln w="936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34"/>
                </a:solidFill>
                <a:uFillTx/>
                <a:latin typeface="Tahoma"/>
              </a:rPr>
              <a:t>5 variables to consider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buClr>
                <a:srgbClr val="29293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Initial quantity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buClr>
                <a:srgbClr val="29293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Final quantity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buClr>
                <a:srgbClr val="29293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# of half-lives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buClr>
                <a:srgbClr val="29293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Value of a half life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buClr>
                <a:srgbClr val="29293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Time Elapsed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ample Problem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sample of radioactive iridium has a half life of 12 years.  In 60 years, how much iridium would remain from a 50g sample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3"/>
              <p:cNvSpPr txBox="1"/>
              <p:nvPr/>
            </p:nvSpPr>
            <p:spPr>
              <a:xfrm>
                <a:off x="5016600" y="5468760"/>
                <a:ext cx="14284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15"/>
              <p:cNvSpPr txBox="1"/>
              <p:nvPr/>
            </p:nvSpPr>
            <p:spPr>
              <a:xfrm>
                <a:off x="4921200" y="3490920"/>
                <a:ext cx="14842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9" name="Text Box 4"/>
          <p:cNvSpPr/>
          <p:nvPr/>
        </p:nvSpPr>
        <p:spPr>
          <a:xfrm>
            <a:off x="849240" y="3206880"/>
            <a:ext cx="2691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Initial=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Final=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Time Elapsed=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# of half lives=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Value of 1 half life=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1828800" y="318780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50g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3357720" y="5651640"/>
            <a:ext cx="15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12 years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2886120" y="44560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60 years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1814400" y="381492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17"/>
              <p:cNvSpPr txBox="1"/>
              <p:nvPr/>
            </p:nvSpPr>
            <p:spPr>
              <a:xfrm>
                <a:off x="4892760" y="2376360"/>
                <a:ext cx="1560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itial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5" name="Text Box 18"/>
          <p:cNvSpPr/>
          <p:nvPr/>
        </p:nvSpPr>
        <p:spPr>
          <a:xfrm>
            <a:off x="2846520" y="5056200"/>
            <a:ext cx="13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60/12 = 5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19"/>
              <p:cNvSpPr txBox="1"/>
              <p:nvPr/>
            </p:nvSpPr>
            <p:spPr>
              <a:xfrm>
                <a:off x="4957920" y="4430880"/>
                <a:ext cx="1498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0"/>
              <p:cNvSpPr txBox="1"/>
              <p:nvPr/>
            </p:nvSpPr>
            <p:spPr>
              <a:xfrm>
                <a:off x="7029360" y="3813120"/>
                <a:ext cx="193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2533c"/>
                </a:solidFill>
                <a:latin typeface="Arial"/>
              </a:rPr>
              <a:t>Half-lif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Half-lives can range from a millionth of a second to millions of year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640" name="Picture 4" descr="ral3-2"/>
          <p:cNvPicPr/>
          <p:nvPr/>
        </p:nvPicPr>
        <p:blipFill>
          <a:blip r:embed="rId1"/>
          <a:stretch/>
        </p:blipFill>
        <p:spPr>
          <a:xfrm>
            <a:off x="5257800" y="735120"/>
            <a:ext cx="32004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 Long Time Ago…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ntoine Lavoisier (1782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sed experiments in closed containers to develop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Law of Conservation of Matt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Joseph Proust (1799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alyzed water to develop the Law of Definite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opor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John Dalton (1803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mpiled past research to develop the first useful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tomic theo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92" name="Picture 7" descr=""/>
          <p:cNvPicPr/>
          <p:nvPr/>
        </p:nvPicPr>
        <p:blipFill>
          <a:blip r:embed="rId1"/>
          <a:stretch/>
        </p:blipFill>
        <p:spPr>
          <a:xfrm>
            <a:off x="685800" y="2060640"/>
            <a:ext cx="615960" cy="7430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"/>
          <p:cNvPicPr/>
          <p:nvPr/>
        </p:nvPicPr>
        <p:blipFill>
          <a:blip r:embed="rId2"/>
          <a:stretch/>
        </p:blipFill>
        <p:spPr>
          <a:xfrm>
            <a:off x="685800" y="3414600"/>
            <a:ext cx="677880" cy="800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"/>
          <p:cNvPicPr/>
          <p:nvPr/>
        </p:nvPicPr>
        <p:blipFill>
          <a:blip r:embed="rId3"/>
          <a:stretch/>
        </p:blipFill>
        <p:spPr>
          <a:xfrm>
            <a:off x="725400" y="4724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2533c"/>
                </a:solidFill>
                <a:uFillTx/>
                <a:latin typeface="Arial"/>
              </a:rPr>
              <a:t>Radioactive Dating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ses carbon-14 to tell age of fossi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-14 is present constantly in atmospher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15.3 decays/min in living organism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decays/min decreases by ½ every 5370 years an organism is dead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Only useful to 60,000 yrs ago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ransmut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l nuclear reactions are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ransmutation reac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ome transmutation reactions are induc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l transuranium elemen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atomic #93 and greater) ha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een produced through induc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ransmutati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683400" y="1512720"/>
            <a:ext cx="2270160" cy="1262160"/>
          </a:xfrm>
          <a:prstGeom prst="rect">
            <a:avLst/>
          </a:pr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Conversion of an 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element into an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atom of another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element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646" name="Picture 6" descr="300px-Fission_chain_reaction"/>
          <p:cNvPicPr/>
          <p:nvPr/>
        </p:nvPicPr>
        <p:blipFill>
          <a:blip r:embed="rId1"/>
          <a:stretch/>
        </p:blipFill>
        <p:spPr>
          <a:xfrm>
            <a:off x="6505560" y="3263760"/>
            <a:ext cx="23335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2533c"/>
                </a:solidFill>
                <a:latin typeface="Arial"/>
              </a:rPr>
              <a:t>Writing Induced Transmutation Reactions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468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rite the balanced nuclear equation for the induced transmutation of aluminum-27 into sodium-24 by neutron bombardment.  An alpha particle is released in the reacti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8"/>
              <p:cNvSpPr txBox="1"/>
              <p:nvPr/>
            </p:nvSpPr>
            <p:spPr>
              <a:xfrm>
                <a:off x="2898720" y="3122640"/>
                <a:ext cx="3741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l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13"/>
              <p:cNvSpPr txBox="1"/>
              <p:nvPr/>
            </p:nvSpPr>
            <p:spPr>
              <a:xfrm>
                <a:off x="2919240" y="5738760"/>
                <a:ext cx="3616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u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1" name="Text Box 4"/>
          <p:cNvSpPr/>
          <p:nvPr/>
        </p:nvSpPr>
        <p:spPr>
          <a:xfrm>
            <a:off x="679320" y="438948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rite the balanced nuclear equation for the alpha particle bombardment of Pu-239.  One of the reaction products is a neutron.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Nuclear Reactions for Energy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Fission- nucleus broken into 2 smaller nuclei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Fusion- smaller nuclei join to form a larger, more stable nuclei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655" name="Picture 8" descr="http://images.tutorvista.com/content/atoms-and-nuclei/uncontrolled-fission.jpeg"/>
          <p:cNvPicPr/>
          <p:nvPr/>
        </p:nvPicPr>
        <p:blipFill>
          <a:blip r:embed="rId1"/>
          <a:stretch/>
        </p:blipFill>
        <p:spPr>
          <a:xfrm>
            <a:off x="0" y="3200400"/>
            <a:ext cx="4510080" cy="35053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0" descr="http://www.atomicarchive.com/Fusion/Images/fusion.jpg"/>
          <p:cNvPicPr/>
          <p:nvPr/>
        </p:nvPicPr>
        <p:blipFill>
          <a:blip r:embed="rId2"/>
          <a:stretch/>
        </p:blipFill>
        <p:spPr>
          <a:xfrm>
            <a:off x="4724280" y="3200400"/>
            <a:ext cx="3944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actants and Produc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58" name="Rectangle 5" descr=""/>
          <p:cNvPicPr/>
          <p:nvPr/>
        </p:nvPicPr>
        <p:blipFill>
          <a:blip r:embed="rId1"/>
          <a:stretch/>
        </p:blipFill>
        <p:spPr>
          <a:xfrm>
            <a:off x="73080" y="1676520"/>
            <a:ext cx="4120920" cy="4717800"/>
          </a:xfrm>
          <a:prstGeom prst="rect">
            <a:avLst/>
          </a:prstGeom>
          <a:ln w="0">
            <a:noFill/>
          </a:ln>
        </p:spPr>
      </p:pic>
      <p:pic>
        <p:nvPicPr>
          <p:cNvPr id="659" name="Rectangle 6" descr=""/>
          <p:cNvPicPr/>
          <p:nvPr/>
        </p:nvPicPr>
        <p:blipFill>
          <a:blip r:embed="rId2"/>
          <a:stretch/>
        </p:blipFill>
        <p:spPr>
          <a:xfrm>
            <a:off x="4187880" y="1676520"/>
            <a:ext cx="4803840" cy="471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87656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Nuclear Power- </a:t>
            </a:r>
            <a:br>
              <a:rPr sz="3600"/>
            </a:b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generated by a controlled </a:t>
            </a:r>
            <a:r>
              <a:rPr b="0" lang="en-US" sz="3600" spc="-1" strike="noStrike" u="sng">
                <a:solidFill>
                  <a:srgbClr val="d2533c"/>
                </a:solidFill>
                <a:uFillTx/>
                <a:latin typeface="Arial"/>
              </a:rPr>
              <a:t>fission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chain reaction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3580920"/>
            <a:ext cx="36957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ontrol rods-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bsorb neutrons to slow the chain reac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de of cadmiu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serted or withdrawn to keep temp of reaction stead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257800" y="350532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derator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- slow neutrons down so they DO hit uranium fuel rod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de of water, beryllium, or graphi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tended to allow neutrons to be absorbed by uranium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663" name="Picture 7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267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Cooling and Shielding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ater- acts as a coolant and transfers heat between reactor and turbines that produce electric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teel &amp; concrete- surround core and protect personnel by absorbing radiation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883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3429000" y="3124080"/>
            <a:ext cx="4724280" cy="1143000"/>
          </a:xfrm>
          <a:prstGeom prst="rect">
            <a:avLst/>
          </a:prstGeom>
          <a:gradFill rotWithShape="0">
            <a:gsLst>
              <a:gs pos="0">
                <a:srgbClr val="bfcac3"/>
              </a:gs>
              <a:gs pos="100000">
                <a:srgbClr val="ebee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John Dalt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97" name="Picture 5" descr="jdalton2"/>
          <p:cNvPicPr/>
          <p:nvPr/>
        </p:nvPicPr>
        <p:blipFill>
          <a:blip r:embed="rId1"/>
          <a:stretch/>
        </p:blipFill>
        <p:spPr>
          <a:xfrm>
            <a:off x="380880" y="1905120"/>
            <a:ext cx="2724120" cy="36115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8120" y="22096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alton’s theory had 4 major tene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1.  All matter is composed of atoms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2.  Atoms are indivisibl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3.  Atoms of 1 element are alike, but different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from those of other elements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4.  Atoms combine in small, whole number ratios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to form compounds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 Little While Ago…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500" name="Picture 7" descr="jjthom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457200" y="1600200"/>
            <a:ext cx="3987720" cy="29718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4000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34"/>
                </a:solidFill>
                <a:latin typeface="Arial"/>
              </a:rPr>
              <a:t>J.J. Thomson (1897) 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discovers the electron using a cathode ray tube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Proposes the “Plum Pudding” Model of the atom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02" name="Picture 8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Cathode Ray Tube Experiment</a:t>
            </a:r>
            <a:br>
              <a:rPr sz="3600"/>
            </a:b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aip.org/history/electron/jjappara.htm</a:t>
            </a:r>
            <a:br>
              <a:rPr sz="2200"/>
            </a:br>
            <a:endParaRPr b="0" lang="en-US" sz="2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05" name="Picture 7" descr="appanim"/>
          <p:cNvPicPr/>
          <p:nvPr/>
        </p:nvPicPr>
        <p:blipFill>
          <a:blip r:embed="rId2"/>
          <a:stretch/>
        </p:blipFill>
        <p:spPr>
          <a:xfrm>
            <a:off x="1371600" y="2133720"/>
            <a:ext cx="7238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Nucleus Exists!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rnest Rutherford (1911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ses the gold foil experiment to “discover” the nucleu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08" name="Picture 7" descr="rutherf2"/>
          <p:cNvPicPr/>
          <p:nvPr/>
        </p:nvPicPr>
        <p:blipFill>
          <a:blip r:embed="rId1"/>
          <a:stretch/>
        </p:blipFill>
        <p:spPr>
          <a:xfrm>
            <a:off x="4495680" y="1981080"/>
            <a:ext cx="43689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Gold Foil Experimen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510" name="Picture 7" descr="rutherford_exp"/>
          <p:cNvPicPr/>
          <p:nvPr/>
        </p:nvPicPr>
        <p:blipFill>
          <a:blip r:embed="rId1"/>
          <a:stretch/>
        </p:blipFill>
        <p:spPr>
          <a:xfrm>
            <a:off x="2862360" y="2604960"/>
            <a:ext cx="3419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sults of Gold Foil Experiment…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Over 98% of the particles went straight through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About 2% of the particles went through but wer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deflected by large angles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About 0.01% of the particles bounced off the gold foil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bout that 0.01% of particles….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" It was quite the most incredible event that ever happened to me in my life. It was almost as incredible as if you fired a 15-inch shell at a piece of tissue paper and it came back and hit you." E. Rutheford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1:56:12Z</dcterms:created>
  <dc:creator>cmichene</dc:creator>
  <dc:description/>
  <dc:language>en-US</dc:language>
  <cp:lastModifiedBy>Dawn</cp:lastModifiedBy>
  <dcterms:modified xsi:type="dcterms:W3CDTF">2011-11-01T20:29:41Z</dcterms:modified>
  <cp:revision>68</cp:revision>
  <dc:subject/>
  <dc:title>Chapter 2</dc:title>
</cp:coreProperties>
</file>